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E16D-B7CE-428A-BE6F-25BB2AFF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E18F-D4A8-4CDC-929F-F0E44508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508E-2033-4C81-B609-71686102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D28A-E06A-4F7C-BECD-0CD70FF5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5E0C-E713-48C4-A085-0763D95F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6526-E4AD-4558-ABEC-D3D1587E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389E-475A-4CE0-BAA6-E74DAA29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B49F-0834-4F1B-AA2D-A40741D3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E815-04C0-45D9-A907-2446F3A5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8676-B9FE-4748-B409-D8E92A29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264C-BF2E-498A-A259-56B9BF8F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564-F8EF-4E72-8F92-4E0A3ADC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3D64-8A07-4C1D-AE31-63FB0681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74B3-7C00-47F3-85B4-30E22A36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F04B-1653-42EB-8FEC-AF3CAA5B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5267-8F05-4DA4-8E24-CC7E1512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F4DA-5BF0-4D29-8A20-65D4A6ED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C49A-AC29-4CE8-89C5-6088FD5B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46D8-FCEE-420F-B305-B0F7BDCF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884-7DDB-4D53-B15E-2BFC2099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871-6255-4635-98D1-69B9930D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2DD8-32DF-4A20-A2CF-27BE668B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EC5-3D31-4D0E-8358-DAC2BDD0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D98-88CB-4974-92EE-0C2D7BC0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4F38-CE51-4400-8BE1-F335328924E9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604B-92DE-4F63-A1DB-21DEF9B80637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Instructional/6-8/General Session 1 of 1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Get Going with eChalk Digital File Locker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dding a Fil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fter we select the file we would like to upload, we can it listed in the window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he “Upload” button to add it to your digital file locker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4920" y="4095720"/>
            <a:ext cx="8510400" cy="266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9880" y="6200640"/>
            <a:ext cx="914400" cy="609840"/>
          </a:xfrm>
          <a:prstGeom prst="ellipse">
            <a:avLst/>
          </a:prstGeom>
          <a:noFill/>
          <a:ln w="381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124320" y="6035760"/>
            <a:ext cx="205740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dding a Fil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that we have clicked “Upload”, we can see the file in our digital file lock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48470" b="0"/>
          <a:stretch/>
        </p:blipFill>
        <p:spPr>
          <a:xfrm>
            <a:off x="1828800" y="3429000"/>
            <a:ext cx="4699080" cy="2525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4819680" y="4575240"/>
            <a:ext cx="220968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aving a Fil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“Save” button allows us to view a file that is already in our digital file lock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rst, we must select the file we want to sav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0" r="64168" b="23047"/>
          <a:stretch/>
        </p:blipFill>
        <p:spPr>
          <a:xfrm>
            <a:off x="2133720" y="3881520"/>
            <a:ext cx="4495680" cy="2544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16080" y="5772240"/>
            <a:ext cx="838440" cy="533160"/>
          </a:xfrm>
          <a:prstGeom prst="ellipse">
            <a:avLst/>
          </a:prstGeom>
          <a:noFill/>
          <a:ln w="381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49320" y="5403960"/>
            <a:ext cx="129528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aving a Fil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nce we click the “Save” button, the file download window will ope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re are three options for saving our file: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e can view it in a new web browser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pen it in the original application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ownload and save the file on our computer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884" t="1513" r="884" b="0"/>
          <a:stretch/>
        </p:blipFill>
        <p:spPr>
          <a:xfrm>
            <a:off x="228600" y="0"/>
            <a:ext cx="86868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eleting a Fil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rst, select the file that needs to be deleted by clicking the box next to the file nam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ext, click the “Delete” butto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67502" b="23318"/>
          <a:stretch/>
        </p:blipFill>
        <p:spPr>
          <a:xfrm>
            <a:off x="3117960" y="4013280"/>
            <a:ext cx="4572000" cy="2844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6095880"/>
            <a:ext cx="914400" cy="685800"/>
          </a:xfrm>
          <a:prstGeom prst="ellipse">
            <a:avLst/>
          </a:prstGeom>
          <a:noFill/>
          <a:ln w="381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5715000"/>
            <a:ext cx="205740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ending the Fil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f we would like to send the file to someone, we can select the file and click “Send Email”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67502" b="23318"/>
          <a:stretch/>
        </p:blipFill>
        <p:spPr>
          <a:xfrm>
            <a:off x="3117960" y="3695760"/>
            <a:ext cx="4572000" cy="2844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727600" y="5762520"/>
            <a:ext cx="1295640" cy="762120"/>
          </a:xfrm>
          <a:prstGeom prst="ellipse">
            <a:avLst/>
          </a:prstGeom>
          <a:noFill/>
          <a:ln w="381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5397480"/>
            <a:ext cx="205740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ending a Fil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fter we click “Send Email”, a new email will open and our document will already be attached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we can send our email with the file attachment like we learned in our eChalk email lesso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84320"/>
            <a:ext cx="9144000" cy="6530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840" y="2577960"/>
            <a:ext cx="6842160" cy="609840"/>
          </a:xfrm>
          <a:prstGeom prst="ellipse">
            <a:avLst/>
          </a:prstGeom>
          <a:noFill/>
          <a:ln w="381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we will practice using each of the features in our Digital File Locker together.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dd a fil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aving a fil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Delete a fil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nd a file as an email attachmen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manage our files using the Digital File Locker in eChalk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we will each have time to practice using our Digital File Lock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dd at least 2 of your class files to your digital file locker.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ractice sending a file in an email to your assigned partn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en you receive the file from your partner, save it to your comput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hoose one file and delete it from your Digital File Lock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we learned how to manage our files in eChalk.  We know how to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dd a fil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ave a file to our compute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Delete a fil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nd a file as an attachment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can the eChalk Digital File Locker help students and teachers  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with their work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e already learned how to use eChalk email to communicate with other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we are going to learn how to manage our files using our eChalk Digital File Lock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igital File Locker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ur digital file locker is located within the “My Account” tab in eChalk.  They are kept in a folder called “Files”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4280" y="1600200"/>
            <a:ext cx="870120" cy="304920"/>
          </a:xfrm>
          <a:prstGeom prst="ellipse">
            <a:avLst/>
          </a:prstGeom>
          <a:noFill/>
          <a:ln w="381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89040" y="2101680"/>
            <a:ext cx="259056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igital File Locker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nce we are in our Digital File Locker, we can see our files listed, and use the buttons to Add, Save, Delete, and Send an Email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3504960" y="2117880"/>
            <a:ext cx="190476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7640" y="2314440"/>
            <a:ext cx="2438280" cy="457200"/>
          </a:xfrm>
          <a:prstGeom prst="ellipse">
            <a:avLst/>
          </a:prstGeom>
          <a:noFill/>
          <a:ln w="381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27000" y="1495440"/>
            <a:ext cx="2438640" cy="457200"/>
          </a:xfrm>
          <a:prstGeom prst="ellipse">
            <a:avLst/>
          </a:prstGeom>
          <a:noFill/>
          <a:ln w="381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dding a Fil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 add a file, click the “Add” button, and the file selection window will open.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he “Choose File” butto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920" y="3733920"/>
            <a:ext cx="8561160" cy="2679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851200" y="5423040"/>
            <a:ext cx="1523880" cy="533160"/>
          </a:xfrm>
          <a:prstGeom prst="ellipse">
            <a:avLst/>
          </a:prstGeom>
          <a:noFill/>
          <a:ln w="381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7-03-11T20:35:28Z</dcterms:modified>
  <cp:revision>21</cp:revision>
  <dc:subject/>
  <dc:title>Workshop Title</dc:title>
</cp:coreProperties>
</file>